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184-AB34-4CFA-93AF-8C53F30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E0C-9C50-4C27-A222-C3FA98B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001EB-AAA4-4F0A-93E2-2CE0663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4D65D-32D9-4C2E-9D82-27679B6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743C3-5AC5-4D36-B6E9-0CD6768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A2BB-A84D-4197-B175-2AEF782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501ED-7B33-4E66-A1A4-615BC50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9C434-D13B-4CCC-9310-66E3732A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556A5-CEA3-4555-BDF2-68BB7205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0E1A1-399B-4763-A832-2D803007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BA417-CC7A-408E-82D2-C78C1A90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3DF15-4FC0-4FAA-87BC-70D5E89E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A4E-6255-4DFA-8305-953AF8D3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56480-A10F-4658-90D1-2357D3B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31CEE-DA42-4AF0-BA7D-8576CE3C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A886E-6206-47BC-BEFE-A38B912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54168-19BC-48D5-9089-1EF17D2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665F9-CE3E-4CCB-A233-FBB9734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E014-C91F-499A-ACE4-47FDCCF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A579A-D28B-4627-AFCB-C7EE4DC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24450-D2BB-434F-9049-60603B8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3DCA-F782-4083-8D46-066CB76B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588F-2221-4038-A354-74107C0E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D8A-7DAD-4599-9BEC-11C0766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94BCE-9DB0-4ACF-B615-F718FB77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1219-5AA7-4123-A13E-9B2192A2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79DE0-73BC-4018-854C-9F777CC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EC0F-5635-4919-A469-065325D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F0BA-7DFC-454F-A989-178A8DC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50F6E-EAC0-418B-8A54-4B8419FC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414DA-E058-46EE-B558-63C68AB1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542E5-967F-4198-A6BB-60CA11E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D2E7B-E73F-494D-B0A4-D3F1D28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E172B-19A1-48C7-A78D-E3DFC1B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944D-AD6A-44D2-A998-DB712A2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84B86-83E9-41AC-BB76-F606499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F03C5-B253-4EF5-9665-2C062C7E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3F25-737A-40CC-950C-F259C35D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D173C-674E-4CAD-99ED-3BB719ED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DAEE8-BC1C-49DF-95FE-69FD600A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96D4C-944D-48F0-8003-4B89431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A75F-2725-4A0C-B21E-11A4EA1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1518B-59D4-44D5-8616-555AE845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336EE-083F-479C-9D51-E9A0AC4D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0F96A-2BBA-4D21-B654-BB09C89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5DB8-5A5B-4372-86AF-22B28F93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F19DC-28C0-40F8-BB57-C202488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78358-D5A0-4F83-8F4B-D96D26B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83BC8-0FFB-41A6-8F5A-9828795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317D-63F7-43F0-B625-D9BA7B8C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ADF5D-B24B-4F9C-A3F1-250882CA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BD7CC-DDD0-4FC5-874C-011F507D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F834C-3F99-4FF2-88AB-3AE939B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9621E-D930-450B-835D-905FB635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8DEEF-E3FA-49A4-A838-9A6F98A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6C839-714B-45BB-8E05-C08C2FC2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81A-B1AC-44F7-A342-BCAE078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6D270-D179-41A9-BFC3-2953460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16C4A-725D-4DE6-AB98-515A76B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C867D-8E81-401A-B45E-9B329785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4FD62-487E-40D2-A33F-6E902DB0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232BA-2018-4D4F-9E95-16021F3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740C2-8FD3-432C-8231-6D30F288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F2EDB-331E-4773-99A3-3E87A049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D9902-08D4-4D85-A4E5-3BAD7DF9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5F21B-972A-43C5-8AE7-C8A5B2B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EA707-0F93-43A8-A0D6-7346D82D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0C32-86E6-4A35-8553-E89AAAE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E363C-18C5-4C3A-9532-8472503B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F607C-A7AE-4A2E-8624-7EEC0C9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4E8D6-5E4C-4D02-97B1-10845A1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F2EA8-1A0F-44A5-905E-E0B398B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BF94F-E91A-4947-8634-BF3B4CC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401E2-E42D-4BBD-BEFD-B0CBF6C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12A5E-5DC8-47D9-87BC-9B3C683C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A7865-BDC4-40A7-AA81-99F1D389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3ABFE-13F5-49A9-896F-BE2CD07C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FAF4F-9C28-4229-BAEF-88F8EEC0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B54-13CA-4CB8-8E71-645ABA6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FD16A-CE24-4AB2-A347-8BEB5EBD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A321D-D9BA-4DF9-9248-36E2A9E6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A1BC6-E9AF-44F4-9A19-1065A64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6FA6F-A540-4164-ADA0-1610D48D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63C73-3BFD-478D-BB26-46D03CC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B0098-AA76-46B8-8C6E-FEEE5E97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F6B1C-A366-4C23-8E11-80F54B8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4B86E-A09F-4765-9471-4BA96DC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47638-C668-4816-87EA-AF3EC6B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DF5C7-66E2-41D8-AC26-5DD3B8D0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9236-2AB3-49D0-AE37-8B09A99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C6100-AE5F-4AB0-AAB8-E287FE38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C88E7-7A48-4AD1-A9F8-E721F3CE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40F93-52E6-406D-85B4-0B8A150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B5427-1973-4F52-990E-662F64B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5EA81-8445-474A-B746-88EA43E3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C3C82-3F69-4591-9FFB-B5F9451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EAD48-FDA2-4E8A-853F-5EC03F07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80085-E8BE-4BC5-86D2-75C33158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D5D9F-650C-4AA2-8494-1B156CE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129DC-F860-4564-A816-54754D1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6C9-BAC8-4E41-AA45-347D430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718F03-6C69-497B-B5FB-CFF755F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92BD8-07BD-4906-B2A0-8739C2C3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DAD93-9C34-417E-A28D-26A70454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0A893-F521-4B95-B24F-1BA9E09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66841-C593-4F1D-856B-DD664B7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12ACB-FA10-4E5A-897D-1680E0C8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D631A-CFC7-43AF-88CE-0C4A37E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D3598-E8FF-41F3-80D0-6AC66F5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1658A-A3E7-4857-960A-17B8375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2798F-2AE9-4B93-852C-A96102B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735-A5AD-452A-BEE4-6C6529E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1038-32DC-4276-BD65-81FC548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D07B0-392D-4862-841F-B852A2C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4ABC7-3C75-4AF2-BE42-9410B24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8262E-3132-4A6D-9AA4-CC26DBA7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6F8A9-6370-4D4E-B883-D13BE7CF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4F33E-27DD-4ADF-BB69-2168E0F9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C3395-872A-4918-AA32-F76983FD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710AE-AB5D-4DF9-A708-6CEF8E3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DCD4C-A7F4-4A9F-B02D-E6F9B11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09BC1-D7AB-44DE-B42A-686A947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0BC2C-B72F-49A7-850E-2ED71D2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25B-7FCB-410B-8AF8-52FBF43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26CA7-2FF2-4078-9242-3CC7D29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EE51A-9D7B-415E-9BBC-B9CD523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E4FB8-12EE-43B6-A24E-4617235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9C426-F9D3-453E-952B-6F3E628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D85C1-C8FD-4722-9486-45FA079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8EF7B-D3CA-4AED-88BA-7969BCFC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8D431-4587-406D-8489-A7E102C5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46B62-F62C-40F6-A0E5-83E5B0C6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3F733-EE20-40B5-8E04-654A296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E752C-7E2A-49FB-8D46-1649060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86E1-23C4-4C13-A242-16978534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9BD7E-111B-430C-9605-CFB0871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F2A88-D5D7-44C2-9AA2-4C1FC47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097F4-031C-4753-B45D-9B8233C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C0260-5441-46D5-ABB7-E6AC4FE4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DBA25-3305-4323-BF8A-57A2561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DEC66-5771-4A78-9E82-6559D66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67093-F0CA-47BC-BB4C-24C8F71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54037-C5B9-4677-BDC3-3EAD7438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6271E-6968-44FD-9900-492E77B7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E239D-540E-4B6D-B137-FFFA2BCC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224-6FA9-41ED-8E38-7579ED76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8C441-5F26-41B0-9063-7E9FD484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AD42F2-EB86-41FE-A81D-76558BB3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CD63C-C176-4D89-A308-C05117A6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11571-1616-4526-8994-5FE54C6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D9E84-CEAF-4F6A-82A2-951B1F8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13A9B-09DB-468B-86C6-F309146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6CB7E-49F3-47A5-9042-686F04C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D10F7-0CC2-4CCA-A0F6-77CC9AB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7F82D-D1A9-4E12-9716-98F75D15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2CF2E-A72B-461E-B6B7-A950B255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4F54-E775-4FA1-9067-D00ED802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DF8B9-AF96-4FAB-BA15-C7DA1F2A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BAF20-02D4-44F5-98AB-88A55E7B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6BB42-C4F7-4EDB-B15F-034060D7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38D2E-FCAD-4C63-8DA3-5F55373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ED668-1C58-40D1-B697-5384247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AE0A9-E200-4FC0-B06C-D64DD38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C4DCF-0227-47B3-B67B-74CFF5F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95D14-CCFD-48B8-9E68-C29F87B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FBC0F-52E2-46CE-ACFA-E5CFD67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FD2AEA-6171-4C26-A4AE-521CA06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E558-853A-4BB5-92C5-A1E3DDFE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50B6E-6AAD-49FD-B65E-8EB42FF4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DEE1C-ED91-426B-8EDE-B18EDA90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4CA32-3EFA-4E90-9FBE-15AE7867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217A-7D12-49ED-A4A6-A4009802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7550-A07B-492C-8DDA-35D70DD5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5A68-68F0-4C15-8FAA-DF1AC46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006D-B35B-4216-AC56-2F5CBA14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918-6418-4EC4-B924-3910C388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61C0-CB67-40C2-BEBF-5CD0CAB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4B55-9A62-4D00-A916-2730392E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F51D-BE01-4664-8DC8-9258A6D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F0C1-D0C7-49E3-8ADA-2F4CE61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FBA2-4056-41AC-B9FE-D73EB74C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DFFC-3658-4684-B6CE-97ED05D9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DF1D-2D1C-452C-97C1-55AE482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0228-FD44-428C-BBB1-4F6A7B2F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B88C-E10A-4C6D-AFBB-D7B60BB2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8CEF-DA34-42A4-8381-3C32760D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A33-D75A-4768-AD1B-E199D833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AA3F-020B-42F1-A05B-D7CA244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785D-BF7C-46E5-81EF-CA4B697B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D359-BEF9-486F-B70E-AEC42D5F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A88C-D007-40A1-92AA-28A44DB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4BC6-70FA-40B9-8F58-233D0CC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4FF9-483E-445D-BDEF-2B1418A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6461-E0B2-4616-9AEE-D8767637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7798-78F0-4626-8E31-0E1C1CF0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B28A-38FC-4F96-BB79-3400BB38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ED22-2E2B-4C77-9505-01CA388A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417-7D12-49D4-B9E2-04620C9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F994-9B33-4317-93DE-C5EE17D7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B559-9AC4-4612-A959-CCA18EA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0C32-D222-4BB3-A038-96F8AC95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99D6-21F0-4629-9D4E-44EA8DE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0A30-7249-46A4-A83B-B65F729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10D6-2AC6-4BB1-9F74-CE9B1DF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A2508-4525-4C58-8776-9A58328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C227-5AA5-46B0-997B-952B573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1AE3F-C239-4248-9F68-FBDCAAC5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7234-013D-4200-A71D-391BC09B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E54-2DBF-4643-A5F0-E508DA22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04F79-1280-4ED6-8FC4-F4F154A1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422B-D324-4290-8D8C-D6926E2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CE80-D27D-4D69-A023-4054D5CC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C2E06-0696-45E1-8F41-2F4282B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A5AC-A928-459F-A3C6-E133696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3870-FFF1-4999-9C18-46A7D4F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FC77-7B88-4701-BB80-60D48EF7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45E2-D907-49A2-8A68-416B098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1D98-C06F-49BE-BF5E-0744CB8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33E7-6D44-4E2E-839F-1AB8618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8E5-097B-4B5A-BBCC-1769396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B28A-08F0-47A5-BD33-5262167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A4A4-6A56-415F-B6B1-CD6F93F6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6712-DEC5-498F-991A-C437D7E6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566C-9AF5-4161-93A3-4041C74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2538-6FC9-4048-9E82-0D0C587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597A-FAD8-4B7B-8CD7-950E879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08CC4-BD78-4F51-9F67-AF9A39CF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CBC2C-4436-4EC2-9CAD-FD7687C3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53DC-8D7B-4CBB-9980-0C2F237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60C2-EA97-43C5-9385-A0F6A496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D39-6206-4AC0-8006-2E8E357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1E33-B192-4048-85B4-5CF22A4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5AB40-348C-46C7-BA55-39FC7A6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E3CC-55E1-47D4-A472-2B1042F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C094-39EC-4A00-8EC9-92A70E31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70756-7F3C-4861-B530-37A93D26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CF91-A682-4A80-A913-2F4E0FB3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D874-E198-4ADA-A27A-54B4F1E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6A2C1-752D-48A5-AAAF-462F4C71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014F-71C3-47D4-9471-002415B7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1047A-929B-4A9F-A225-88A970C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10E-81CB-49B6-AB6D-2A8BCA8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85764-684F-4EF4-B84A-A40E6CAB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5ED2-A6BF-47DB-B123-D2EF9BE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D66C-F67C-4B98-8C3E-0CD3367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AB7B8-14FC-40BE-A8E2-A5BF81D4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52C0-CD92-4A79-BCE5-84E5563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0858-3078-4C18-973E-CB423F4B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7D31-7AC4-460E-B553-39D45942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4D6FB-9BD1-4E26-84A8-E1950D2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7F3AD-B8C5-439E-950C-A8C202D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78A0-FB86-44B7-9023-88E4F57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407A-095D-4322-AF5A-843612891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B4A-B652-4176-8C79-A4B7749DE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2E7-4BDD-46BE-84A0-143458127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A42B-EBA7-4830-BC93-94361E1A01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7D4-662C-499E-B097-DA656A69D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FB8-41C4-4D12-9F83-28C93D046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255-595D-44B2-A699-ACD52C58B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F71-EF1A-43BD-94CF-D94A01ED1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FD2-C1B1-48C8-850A-78529A5F8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FAB-8B52-421E-BC8F-16E995604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A2B2-E986-4B2B-9C10-4EB84D28C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AC34-1D45-4724-9858-69EAA291D1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2E97-8168-468B-8A5D-7B95240A7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0FD9-06C7-42B4-8AD2-811195B3C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22A-1C18-43D9-8634-66706F6DD8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657-9413-4E65-9332-6C6E8CD76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B47-324F-41C0-9021-C57C8187F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39A2-3831-4F7B-BFEB-47BC92BC8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046-D89E-48EC-9353-F3841BF06C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349-8A25-43FA-960F-7842DDE9F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3F5F-CC5D-4422-A44F-F193641648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842-521A-4E96-BE94-C9AE79A21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618-6216-41CC-BE9E-C537D42EB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577-7B00-49BE-8AF9-DDCC63A6D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D2D-8408-4C27-A638-734FF9014C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B87-947C-4E66-9894-6360C7C5F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C60D-29A7-4931-917C-7EADFE491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576-8FB6-4B83-BD31-33EE134DA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B73-2722-4B1D-BD15-1BF6FEA3E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F217-4406-4413-91B9-189015796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450-D2D2-4B4C-963B-99DD51370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8E4-2CA9-4801-99D3-CB3B21A8D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50C-1047-4F2D-A851-789A0FEF2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070-5C46-4AE3-85AF-D5C5E0B833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3A4A-3BEE-427E-8186-0E5E444D5A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C97-6875-4C45-A213-C584E91E4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EC68-0627-4698-BFF4-4494E3EBF2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88F-0EA3-4A4A-9E10-85B2FF39F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765-B1ED-4C02-A2E8-C355DB8A7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654B-C49B-4B7C-B926-260BE9F4F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81120" y="3019320"/>
            <a:ext cx="7781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8960" y="866880"/>
            <a:ext cx="8506080" cy="5657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867280" y="2449440"/>
            <a:ext cx="244980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940360" y="3184560"/>
            <a:ext cx="244944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4653000"/>
            <a:ext cx="446544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96000" y="6093000"/>
            <a:ext cx="244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544240" cy="509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7885080" y="54021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7812000" y="2492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7885080" y="32986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7812000" y="3932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885080" y="473868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6801" descr=""/>
          <p:cNvPicPr/>
          <p:nvPr/>
        </p:nvPicPr>
        <p:blipFill>
          <a:blip r:embed="rId1"/>
          <a:stretch/>
        </p:blipFill>
        <p:spPr>
          <a:xfrm>
            <a:off x="471600" y="1533600"/>
            <a:ext cx="8200800" cy="37908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075280" y="32274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4932360" y="39481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4932360" y="4667400"/>
            <a:ext cx="3816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843120" y="725400"/>
            <a:ext cx="7457760" cy="28479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4" descr=""/>
          <p:cNvPicPr/>
          <p:nvPr/>
        </p:nvPicPr>
        <p:blipFill>
          <a:blip r:embed="rId2"/>
          <a:stretch/>
        </p:blipFill>
        <p:spPr>
          <a:xfrm>
            <a:off x="776160" y="3789360"/>
            <a:ext cx="7591680" cy="2924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26920" y="22334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26920" y="2924280"/>
            <a:ext cx="3240360" cy="479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5148360" y="155736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5148360" y="223344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5148360" y="292428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826920" y="433872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0"/>
          <a:stretch/>
        </p:blipFill>
        <p:spPr>
          <a:xfrm>
            <a:off x="826920" y="50148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1"/>
          <a:stretch/>
        </p:blipFill>
        <p:spPr>
          <a:xfrm>
            <a:off x="826920" y="5705640"/>
            <a:ext cx="3240360" cy="479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2"/>
          <a:stretch/>
        </p:blipFill>
        <p:spPr>
          <a:xfrm>
            <a:off x="826920" y="62514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3"/>
          <a:stretch/>
        </p:blipFill>
        <p:spPr>
          <a:xfrm>
            <a:off x="5046840" y="43243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4"/>
          <a:stretch/>
        </p:blipFill>
        <p:spPr>
          <a:xfrm>
            <a:off x="5046840" y="500076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5"/>
          <a:stretch/>
        </p:blipFill>
        <p:spPr>
          <a:xfrm>
            <a:off x="5046840" y="569124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6"/>
          <a:stretch/>
        </p:blipFill>
        <p:spPr>
          <a:xfrm>
            <a:off x="5046840" y="623736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257040" y="1133640"/>
            <a:ext cx="8629920" cy="4590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71640" y="31701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44085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71640" y="5027760"/>
            <a:ext cx="7921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6324" descr=""/>
          <p:cNvPicPr/>
          <p:nvPr/>
        </p:nvPicPr>
        <p:blipFill>
          <a:blip r:embed="rId1"/>
          <a:stretch/>
        </p:blipFill>
        <p:spPr>
          <a:xfrm>
            <a:off x="299880" y="885960"/>
            <a:ext cx="8544240" cy="5638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826920" y="29383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971640" y="423396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971640" y="5459400"/>
            <a:ext cx="410508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971640" y="6107040"/>
            <a:ext cx="4105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5300" descr=""/>
          <p:cNvPicPr/>
          <p:nvPr/>
        </p:nvPicPr>
        <p:blipFill>
          <a:blip r:embed="rId1"/>
          <a:stretch/>
        </p:blipFill>
        <p:spPr>
          <a:xfrm>
            <a:off x="252360" y="266760"/>
            <a:ext cx="8639280" cy="6324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2268360" y="4840200"/>
            <a:ext cx="93528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2195640" y="5516640"/>
            <a:ext cx="93492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2195640" y="6107040"/>
            <a:ext cx="934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4276" descr=""/>
          <p:cNvPicPr/>
          <p:nvPr/>
        </p:nvPicPr>
        <p:blipFill>
          <a:blip r:embed="rId1"/>
          <a:stretch/>
        </p:blipFill>
        <p:spPr>
          <a:xfrm>
            <a:off x="1100160" y="1125360"/>
            <a:ext cx="6943680" cy="215280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4277" descr=""/>
          <p:cNvPicPr/>
          <p:nvPr/>
        </p:nvPicPr>
        <p:blipFill>
          <a:blip r:embed="rId2"/>
          <a:stretch/>
        </p:blipFill>
        <p:spPr>
          <a:xfrm>
            <a:off x="314280" y="3629160"/>
            <a:ext cx="8515440" cy="2104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496280" y="17002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270320" y="22194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510320" y="22766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820880" y="40910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657680" y="414972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8101080" y="414972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619280" y="472428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4687920" y="472428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8186760" y="4724280"/>
            <a:ext cx="706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6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